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5D44-A2EA-4355-9870-1E018E9E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E9B-2E69-4A06-9AEC-F39753FA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E04B-D507-4825-AA2E-6066BE38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F5F4-D9A7-439D-AEA3-DC31A4B8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823A-9E54-4F69-8B5E-6B88673C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BD96-DCA6-4972-AFFA-47D1D4FF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EF1-1935-4D06-8B9E-C4F119DA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8359-5CCC-4228-84D5-8FB66154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CA7D-D05D-4AB5-BF3D-661318C7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509F-268D-4F00-9621-9CA7E069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A020-CBBF-4CFB-8D5C-0235D375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8CFD-DF42-4978-BB8C-7048EC1F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A498-C9F0-48A3-9C44-BC0CE3AB0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99560" y="-15480"/>
            <a:ext cx="664704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808080"/>
                </a:solidFill>
                <a:latin typeface="Monotype Corsiva"/>
              </a:rPr>
              <a:t>38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След една седмица трудна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от делата на тоз свят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стигнахме почивка чудна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в ден благословен и свят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Радос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и блаженство дава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скъп е дар от Бога мой;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ой душа ми освежава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в него имам аз пок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4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911520" y="1824120"/>
            <a:ext cx="6709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Само шест дни да работим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определи за нас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седмия пък да осветим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заповяда Той тогаз.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Но не първий ден, неделя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за покой е отреден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Всеки трябва да отделя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свят за Него седмий де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921960" y="2350800"/>
            <a:ext cx="6930360" cy="44830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Адам съботата в рая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пази, също и Христос;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жиите слуги до края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следват този пример прост.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Всичко може да пропадне,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но законът е без край!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Нито събота ще падне - </a:t>
            </a:r>
            <a:br>
              <a:rPr sz="3600"/>
            </a:b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я ще трай и в вечний р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03:33Z</dcterms:created>
  <dc:creator>TrifonTrifonow</dc:creator>
  <dc:description/>
  <dc:language>en-US</dc:language>
  <cp:lastModifiedBy>TrifonTrifonow</cp:lastModifiedBy>
  <dcterms:modified xsi:type="dcterms:W3CDTF">2005-11-23T17:20:42Z</dcterms:modified>
  <cp:revision>5</cp:revision>
  <dc:subject/>
  <dc:title>Slide 1</dc:title>
</cp:coreProperties>
</file>